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9.gif" ContentType="image/gif"/>
  <Override PartName="/ppt/media/image1.png" ContentType="image/png"/>
  <Override PartName="/ppt/media/image3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24d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8D5E-262D-4BF6-9928-B1162D805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rying this with your students be aware that there are different definitions of trapezoid found in current textboo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SOLU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ing the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 the trapezoid into smaller geometric shapes and find the areas of e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truct a big triangle or rectangle that encloses the trapezoid.  Find the area of that figure and then subtract the extra new sha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good activity to introduce Geoboards so that students understand the meaning of one un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ways of exploring this concept include measuring, superimposing Geoboards, Pythagorean Theorem, properties of a triangl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pictures as needed to assist with the second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4CC5-785A-4BCF-813B-510506DF7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9D4C-E14C-4F1A-812E-30F3D45A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5C5C-AF13-476C-8F31-5C2C1CF60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F35B-DF12-4BCF-B681-B83BD25D8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EFA9-6D73-473A-8677-3BC0C957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939A-2052-465B-9FC5-F24D5742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F88A-FE63-4904-AB76-8981B3F2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6E80-67D1-4B87-A3D9-E4F746B7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90F9-7A38-4622-B131-F792FE75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2AC8-3CF6-4173-B314-50BA8455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2FB8-79E8-4B29-9E8E-232B068D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EA9F-6C4C-491B-9884-521BCC45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ffce"/>
          </a:solidFill>
          <a:ln w="127080">
            <a:solidFill>
              <a:srgbClr val="5a3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04920" y="380880"/>
            <a:ext cx="8458200" cy="6172200"/>
          </a:xfrm>
          <a:prstGeom prst="rect">
            <a:avLst/>
          </a:prstGeom>
          <a:solidFill>
            <a:srgbClr val="ceffce"/>
          </a:solidFill>
          <a:ln w="127080">
            <a:solidFill>
              <a:srgbClr val="ffe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24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342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342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342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342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342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83B4-25A3-4DBA-871C-B98BBD58B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6858000" y="4648320"/>
            <a:ext cx="1762200" cy="1695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848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24d"/>
                </a:solidFill>
                <a:latin typeface="Arial"/>
              </a:rPr>
              <a:t>Geoboards</a:t>
            </a: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2532240"/>
            <a:ext cx="2238120" cy="3487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3733920" y="312408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a31ff"/>
                </a:solidFill>
                <a:latin typeface="Arial"/>
              </a:rPr>
              <a:t>Building Understa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a31ff"/>
                </a:solidFill>
                <a:latin typeface="Arial"/>
              </a:rPr>
              <a:t>Dispelling Misundersta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24d"/>
                </a:solidFill>
                <a:latin typeface="Arial"/>
              </a:rPr>
              <a:t>Leading Math Success</a:t>
            </a: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907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42ff"/>
                </a:solidFill>
                <a:latin typeface="Arial"/>
              </a:rPr>
              <a:t>Now we must find ways to</a:t>
            </a:r>
            <a:endParaRPr b="1" lang="en-US" sz="2000" spc="-1" strike="noStrike">
              <a:solidFill>
                <a:srgbClr val="6342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42ff"/>
                </a:solidFill>
                <a:latin typeface="Arial"/>
              </a:rPr>
              <a:t>make major mathematics</a:t>
            </a:r>
            <a:endParaRPr b="1" lang="en-US" sz="2000" spc="-1" strike="noStrike">
              <a:solidFill>
                <a:srgbClr val="6342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42ff"/>
                </a:solidFill>
                <a:latin typeface="Arial"/>
              </a:rPr>
              <a:t>ideas learnable by the large</a:t>
            </a:r>
            <a:endParaRPr b="1" lang="en-US" sz="2000" spc="-1" strike="noStrike">
              <a:solidFill>
                <a:srgbClr val="6342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42ff"/>
                </a:solidFill>
                <a:latin typeface="Arial"/>
              </a:rPr>
              <a:t>majority of people…</a:t>
            </a:r>
            <a:endParaRPr b="1" lang="en-US" sz="2000" spc="-1" strike="noStrike">
              <a:solidFill>
                <a:srgbClr val="6342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42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6342ff"/>
                </a:solidFill>
                <a:latin typeface="Arial"/>
              </a:rPr>
              <a:t>(Jim Kaput, 1998)</a:t>
            </a:r>
            <a:endParaRPr b="1" lang="en-US" sz="2000" spc="-1" strike="noStrike">
              <a:solidFill>
                <a:srgbClr val="6342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342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1528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24d"/>
                </a:solidFill>
                <a:latin typeface="Arial"/>
              </a:rPr>
              <a:t>Introducing Geoboards</a:t>
            </a: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2238480" cy="3487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4114800" y="51055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7301"/>
                </a:moveTo>
                <a:lnTo>
                  <a:pt x="11183" y="7301"/>
                </a:lnTo>
                <a:lnTo>
                  <a:pt x="11566" y="7667"/>
                </a:lnTo>
                <a:lnTo>
                  <a:pt x="20775" y="7667"/>
                </a:lnTo>
                <a:lnTo>
                  <a:pt x="21332" y="8224"/>
                </a:lnTo>
                <a:lnTo>
                  <a:pt x="21332" y="8772"/>
                </a:lnTo>
                <a:lnTo>
                  <a:pt x="23177" y="8772"/>
                </a:lnTo>
                <a:lnTo>
                  <a:pt x="23543" y="8224"/>
                </a:lnTo>
                <a:lnTo>
                  <a:pt x="24282" y="8224"/>
                </a:lnTo>
                <a:lnTo>
                  <a:pt x="24282" y="13376"/>
                </a:lnTo>
                <a:lnTo>
                  <a:pt x="23543" y="13376"/>
                </a:lnTo>
                <a:lnTo>
                  <a:pt x="23177" y="12828"/>
                </a:lnTo>
                <a:lnTo>
                  <a:pt x="21332" y="12828"/>
                </a:lnTo>
                <a:lnTo>
                  <a:pt x="21332" y="14107"/>
                </a:lnTo>
                <a:lnTo>
                  <a:pt x="11749" y="14107"/>
                </a:lnTo>
                <a:lnTo>
                  <a:pt x="11749" y="9877"/>
                </a:lnTo>
                <a:lnTo>
                  <a:pt x="11566" y="9877"/>
                </a:lnTo>
                <a:lnTo>
                  <a:pt x="11183" y="10243"/>
                </a:lnTo>
                <a:lnTo>
                  <a:pt x="10269" y="10243"/>
                </a:lnTo>
                <a:close/>
              </a:path>
            </a:pathLst>
          </a:custGeom>
          <a:noFill/>
          <a:ln w="9360">
            <a:solidFill>
              <a:srgbClr val="e731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24d"/>
                </a:solidFill>
                <a:latin typeface="Arial"/>
              </a:rPr>
              <a:t>Virtual Geoboards</a:t>
            </a: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http://matti.usu.edu/nlvm/nav/vlibrary.html</a:t>
            </a: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8120" y="4495680"/>
            <a:ext cx="1938240" cy="1801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38080" y="2514600"/>
            <a:ext cx="1938600" cy="1803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257800" y="2514600"/>
            <a:ext cx="1873080" cy="1768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3048120" y="2514600"/>
            <a:ext cx="1909800" cy="1805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24d"/>
                </a:solidFill>
                <a:latin typeface="Arial"/>
              </a:rPr>
              <a:t>Developing Understanding</a:t>
            </a: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buClr>
                <a:srgbClr val="6342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42ff"/>
                </a:solidFill>
                <a:latin typeface="Arial"/>
              </a:rPr>
              <a:t>Construct a trapezoid using the Geoboard.  (Trapezoid:  a quadrilateral having one pair of opposite sides parallel and unequal in length).</a:t>
            </a:r>
            <a:endParaRPr b="1" lang="en-US" sz="2000" spc="-1" strike="noStrike">
              <a:solidFill>
                <a:srgbClr val="6342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6342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42ff"/>
                </a:solidFill>
                <a:latin typeface="Arial"/>
              </a:rPr>
              <a:t>Find the area of the trapezoid in more than one way.</a:t>
            </a:r>
            <a:endParaRPr b="1" lang="en-US" sz="2000" spc="-1" strike="noStrike">
              <a:solidFill>
                <a:srgbClr val="6342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342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62120" y="3429000"/>
            <a:ext cx="1617480" cy="1212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514600" y="3429000"/>
            <a:ext cx="1617840" cy="1212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267080" y="3429000"/>
            <a:ext cx="1617840" cy="1212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762120" y="4876920"/>
            <a:ext cx="1617480" cy="12128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2514600" y="4876920"/>
            <a:ext cx="161784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24d"/>
                </a:solidFill>
                <a:latin typeface="Arial"/>
              </a:rPr>
              <a:t>Dispelling Misunderstanding</a:t>
            </a: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342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One common problem is the students using the diagonal as a unit measure of 1.  To solve this problem have the students construct a horizontal line of 5 pegs and a diagonal line of pegs 5 and compare the lengths.</a:t>
            </a: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342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Knowing this, how would you assist a student who constructs the trapezoid on the diagonal?</a:t>
            </a: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8080" y="4495680"/>
            <a:ext cx="1617840" cy="1212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743200" y="4495680"/>
            <a:ext cx="1617840" cy="12128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800600" y="4495680"/>
            <a:ext cx="1617840" cy="1212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6781680" y="4495680"/>
            <a:ext cx="161784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24d"/>
                </a:solidFill>
                <a:latin typeface="Arial"/>
              </a:rPr>
              <a:t>Reflection</a:t>
            </a: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342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342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342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342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Give students the task to create a figure with an area of 9 square un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342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Once the task is complete, students take a walk around the room observing the outcome of each student’s interpretation of the ta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6342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Using an overhead, invite some students to demonstrate the process used to                  create the fig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24d"/>
                </a:solidFill>
                <a:latin typeface="Arial"/>
              </a:rPr>
              <a:t>Next Steps</a:t>
            </a: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38280" y="1600200"/>
            <a:ext cx="44197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Try one of the activities or explore one of the websites from the LMS manipulative sh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Use the Anticipation Gui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(P. 10 – 14, Think Lite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Mathemati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42ff"/>
                </a:solidFill>
                <a:latin typeface="Arial"/>
              </a:rPr>
              <a:t>Students could be                prompted to predict the result of “What if?” situ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1290600" cy="1676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127332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24d"/>
                </a:solidFill>
                <a:latin typeface="Arial"/>
              </a:rPr>
              <a:t>Leading Math Success</a:t>
            </a:r>
            <a:endParaRPr b="1" lang="en-US" sz="4400" spc="-1" strike="noStrike">
              <a:solidFill>
                <a:srgbClr val="ff424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42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6342ff"/>
                </a:solidFill>
                <a:latin typeface="Arial"/>
              </a:rPr>
              <a:t>The key to the successful use of manipulatives lies in the bridge - which must be built by the teacher - between the artifact and the underlying mathematical concepts.”</a:t>
            </a:r>
            <a:endParaRPr b="1" lang="en-US" sz="2000" spc="-1" strike="noStrike">
              <a:solidFill>
                <a:srgbClr val="6342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3520" y="424800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895480" y="4267080"/>
            <a:ext cx="370548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9T01:47:04Z</dcterms:created>
  <dc:creator>Judy Dussiaume</dc:creator>
  <dc:description/>
  <dc:language>en-US</dc:language>
  <cp:lastModifiedBy>Ross Isenegger</cp:lastModifiedBy>
  <cp:lastPrinted>2005-04-21T15:52:13Z</cp:lastPrinted>
  <dcterms:modified xsi:type="dcterms:W3CDTF">2005-04-29T16:48:41Z</dcterms:modified>
  <cp:revision>23</cp:revision>
  <dc:subject/>
  <dc:title>Using Manipulatives to Build Understanding</dc:title>
</cp:coreProperties>
</file>